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202-9856-48A1-82BC-A4C23614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D80-1D6A-4A8D-8F7A-E47B55DA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3FD-8591-47FE-BAE4-BD3EE34C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A03-758A-4799-A595-DC69E270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42A-706C-4119-8D4D-A4F71BBA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4D0-7339-4A49-9B77-8F24E235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FC2-067B-4CCE-BBC2-4B2453C3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4CC-CBAE-4FE1-B360-06DA6579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285-B9D7-44E3-9FC1-1DFC3399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A77-AA8C-4B36-B339-0C1D75A4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4E2-ED15-4095-8C31-6A52156D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D67-D1D7-4827-81FE-07480DD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67EE-B972-49B2-917A-F62DE2CA3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ers and Absolut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6680" y="2058840"/>
            <a:ext cx="8809200" cy="274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2558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umbers that are the same distance from zero on the number line but in opposite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3200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 whole numbers and their oppo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886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number’s distance from zero on the number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5159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paring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374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003560"/>
            <a:ext cx="8915400" cy="254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3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54864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516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57834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399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3049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inding Absol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545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6012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2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52:30Z</dcterms:created>
  <dc:creator>Susannah Graham</dc:creator>
  <dc:description/>
  <dc:language>en-US</dc:language>
  <cp:lastModifiedBy>Graham</cp:lastModifiedBy>
  <dcterms:modified xsi:type="dcterms:W3CDTF">2011-08-18T12:56:46Z</dcterms:modified>
  <cp:revision>3</cp:revision>
  <dc:subject/>
  <dc:title>Lesson 1.4 Integers and Absolute Value</dc:title>
</cp:coreProperties>
</file>